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B5C-D12D-406A-9437-6041ADD3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303-5AC9-42BB-A0E2-992BA1A3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267-86DB-4112-9366-8540D5D3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35C-3350-461F-AA29-E348B869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231-E38C-4B8B-9BEE-92BEBBBC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952-CE9F-4945-80F4-55C4638C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09C-9CDA-4E82-99AD-9CEB417C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5E3-F469-4862-A278-CD7C14CF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130-F400-4305-AAA7-AD902A08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8D04-4E07-41DB-B2F0-A73DA20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6B9-9A7D-4CC7-839E-E4FAA3E9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669-F781-4623-B6B2-1BE3BC59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7CA5-C2DC-4186-B3D3-FC134886A0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Светлана Петровна\Рабочий стол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ецифика содержа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рса ОРКС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Светлана Петровна\Рабочий стол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учение Презид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казы М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е локальные а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arkh-edu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2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Светлана Петровна\Рабочий стол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граммно-методическое обеспечение курса ОРКС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Ц «Вентана-Граф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д-во «Просвеще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Кураев «Основы православной культу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Ц «Русское сло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д-во «Балас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Светлана Петровна\Рабочий стол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йт ОРКСЭ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ТВ Спас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ер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Радость мо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//www.pravolimp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delro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Светлана Петровна\Рабочий стол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одические рекоменд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носит воспитатель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орксэ свет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одоление противореч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ув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оце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2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Светлана Петровна\Рабочий стол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 учи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имательно рассказать о мире религ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с особенностями церковного искусства родн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питывать терпимость и уважение к инакомыслящ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ить от разрушающего влия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Светлана Петровна\Рабочий стол\1 фон (23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ов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скуссии и диспу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и координ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. 8 911 587 61 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СОШ № 1,  каб.7 (1сме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ochinskaja@yandex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18:53:36Z</dcterms:created>
  <dc:creator>Светлани Петровна</dc:creator>
  <dc:description/>
  <dc:language>en-US</dc:language>
  <cp:lastModifiedBy>Светлани Петровна</cp:lastModifiedBy>
  <dcterms:modified xsi:type="dcterms:W3CDTF">2012-09-11T17:56:29Z</dcterms:modified>
  <cp:revision>9</cp:revision>
  <dc:subject/>
  <dc:title>Специфика содержания  курса ОРКСЭ</dc:title>
</cp:coreProperties>
</file>