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651-EFA8-40EB-95FE-91CD999CF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158-3509-4DF9-8D90-81F36088F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0D63-2860-4867-AE7A-ADDC1AD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1F8-98F0-4BCC-9156-7186B246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D2A-7DA2-4624-AF24-550FDFA8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FAC-8150-45FA-8E3D-F51CEE3E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43D-D3B2-4853-88AB-2CD6EA6E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62A-488B-4C92-B57F-F8DEEC6F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CEB-69EF-432E-80A4-40B44FB4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8A9-A923-481C-8B2A-72B19D20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093-B655-4F64-A78C-B91ADF6D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00A-BE5E-45C5-851C-50F9B8A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284-569B-4EF4-939E-58CA9D8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B40-2EB6-40C8-BA22-48E73860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6964-C66B-4336-B25C-41F2CCECD1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124000" y="692280"/>
            <a:ext cx="43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chool №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124000" y="3068640"/>
            <a:ext cx="428940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chule №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Johnny Cash - Solitary Man(2).mp3" descr=""/>
          <p:cNvPicPr/>
          <p:nvPr/>
        </p:nvPicPr>
        <p:blipFill>
          <a:blip r:embed="rId3"/>
          <a:stretch/>
        </p:blipFill>
        <p:spPr>
          <a:xfrm>
            <a:off x="9144000" y="4000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09.Goot - Changes (Tupac Cover).mp3" descr=""/>
          <p:cNvPicPr/>
          <p:nvPr/>
        </p:nvPicPr>
        <p:blipFill>
          <a:blip r:embed="rId4"/>
          <a:stretch/>
        </p:blipFill>
        <p:spPr>
          <a:xfrm>
            <a:off x="9144000" y="4286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547640" y="476280"/>
            <a:ext cx="50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next 10 years, the school had been led b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. A. Pospel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908000" y="595008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 Jahre lang führte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V.A. Pospelow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P1020412"/>
          <p:cNvPicPr/>
          <p:nvPr/>
        </p:nvPicPr>
        <p:blipFill>
          <a:blip r:embed="rId1"/>
          <a:stretch/>
        </p:blipFill>
        <p:spPr>
          <a:xfrm>
            <a:off x="2484360" y="1341360"/>
            <a:ext cx="2916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 flipV="1" rot="10800000">
            <a:off x="1428840" y="686160"/>
            <a:ext cx="57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1979 to1984 there was a director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. L. Lokte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, from 1985 to 1997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. Y. Tsurca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1997 to199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. I. Garkavenk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. I. Rudomet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14680" y="5300640"/>
            <a:ext cx="564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on 1979 bis 1984 war Direktor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V.L.Loktewa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von 1985 bis 1997 war Direktor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P.J.Zurk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ann führte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S.I.Garkawenko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S.I.Rudomet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P1020414"/>
          <p:cNvPicPr/>
          <p:nvPr/>
        </p:nvPicPr>
        <p:blipFill>
          <a:blip r:embed="rId2"/>
          <a:stretch/>
        </p:blipFill>
        <p:spPr>
          <a:xfrm>
            <a:off x="250920" y="227664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red"/>
          <p:cNvPicPr/>
          <p:nvPr/>
        </p:nvPicPr>
        <p:blipFill>
          <a:blip r:embed="rId3"/>
          <a:stretch/>
        </p:blipFill>
        <p:spPr>
          <a:xfrm>
            <a:off x="3301920" y="1994040"/>
            <a:ext cx="2352600" cy="265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1295531554_rudometov"/>
          <p:cNvPicPr/>
          <p:nvPr/>
        </p:nvPicPr>
        <p:blipFill>
          <a:blip r:embed="rId4"/>
          <a:stretch/>
        </p:blipFill>
        <p:spPr>
          <a:xfrm>
            <a:off x="6084720" y="2060640"/>
            <a:ext cx="190512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 flipV="1" rot="10766400">
            <a:off x="1266480" y="435600"/>
            <a:ext cx="663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2001 director w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.Y.Tsur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ain,who oversaw the construction of the new building. It is the new school, which is situated in the former place in Arkhangelsk Street. The new school is big , light and very beautiful building with large window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547640" y="5805360"/>
            <a:ext cx="63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2001 wurde der Direktor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P.J.Zurkan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ieder mit dem Bau des neuen Gebäudes der Schule auf 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changelskaja - Straße beaufsichtig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p20_glavnyiyvxod"/>
          <p:cNvPicPr/>
          <p:nvPr/>
        </p:nvPicPr>
        <p:blipFill>
          <a:blip r:embed="rId1"/>
          <a:stretch/>
        </p:blipFill>
        <p:spPr>
          <a:xfrm>
            <a:off x="2195640" y="1989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5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700360" y="549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9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.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sho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me the school principa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203640" y="5732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2009 ist Direktor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L.G.Maschow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p21_img_60391"/>
          <p:cNvPicPr/>
          <p:nvPr/>
        </p:nvPicPr>
        <p:blipFill>
          <a:blip r:embed="rId1"/>
          <a:stretch/>
        </p:blipFill>
        <p:spPr>
          <a:xfrm>
            <a:off x="2971800" y="1428840"/>
            <a:ext cx="320040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3"/>
          <p:cNvSpPr/>
          <p:nvPr/>
        </p:nvSpPr>
        <p:spPr>
          <a:xfrm>
            <a:off x="324000" y="1125360"/>
            <a:ext cx="84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4000" spc="-1" strike="noStrike">
                <a:solidFill>
                  <a:srgbClr val="ffc000"/>
                </a:solidFill>
                <a:latin typeface="Arial"/>
              </a:rPr>
              <a:t>Congratulations!!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ppy 75th anniversa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!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hool 1 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1214280" y="1052640"/>
            <a:ext cx="66438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s fo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r attention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2714760" y="3143160"/>
            <a:ext cx="30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nke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09.Goot - Changes (Tupac Cover).mp3" descr=""/>
          <p:cNvPicPr/>
          <p:nvPr/>
        </p:nvPicPr>
        <p:blipFill>
          <a:blip r:embed="rId3"/>
          <a:stretch/>
        </p:blipFill>
        <p:spPr>
          <a:xfrm>
            <a:off x="914400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79280" y="981000"/>
            <a:ext cx="875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 was d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astya Krysanova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Nastya Yumashin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i="1" lang="en-US" sz="2000" spc="-1" strike="noStrike">
                <a:solidFill>
                  <a:srgbClr val="beffee"/>
                </a:solidFill>
                <a:latin typeface="Arial"/>
              </a:rPr>
              <a:t>11”B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An Englis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acher </a:t>
            </a:r>
            <a:r>
              <a:rPr b="1" i="1" lang="en-US" sz="2000" spc="-1" strike="noStrike">
                <a:solidFill>
                  <a:srgbClr val="beffee"/>
                </a:solidFill>
                <a:latin typeface="Arial"/>
              </a:rPr>
              <a:t>Shevtsova I.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A Germ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acher  </a:t>
            </a:r>
            <a:r>
              <a:rPr b="1" i="1" lang="en-US" sz="2000" spc="-1" strike="noStrike">
                <a:solidFill>
                  <a:srgbClr val="beffee"/>
                </a:solidFill>
                <a:latin typeface="Arial"/>
              </a:rPr>
              <a:t>Zykova N.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 flipV="1" rot="10800000">
            <a:off x="1834920" y="5300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cffcd"/>
                </a:solidFill>
                <a:latin typeface="Arial"/>
              </a:rPr>
              <a:t>Unsere Schule wurde 1937 </a:t>
            </a:r>
            <a:r>
              <a:rPr b="0" lang="de-DE" sz="1800" spc="-1" strike="noStrike">
                <a:solidFill>
                  <a:srgbClr val="47ffd1"/>
                </a:solidFill>
                <a:latin typeface="Arial"/>
              </a:rPr>
              <a:t>gegründet.</a:t>
            </a:r>
            <a:r>
              <a:rPr b="0" lang="ru-RU" sz="1800" spc="-1" strike="noStrike">
                <a:solidFill>
                  <a:srgbClr val="47ffd1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ebäude befindet sich auf der Archangelska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Straße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war die erste allgemeinbildende Schule in der Stadt Oneg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P1020422"/>
          <p:cNvPicPr/>
          <p:nvPr/>
        </p:nvPicPr>
        <p:blipFill>
          <a:blip r:embed="rId1"/>
          <a:stretch/>
        </p:blipFill>
        <p:spPr>
          <a:xfrm>
            <a:off x="2050920" y="1557360"/>
            <a:ext cx="4535640" cy="3402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763640" y="40464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ffcd"/>
                </a:solidFill>
                <a:latin typeface="Arial"/>
              </a:rPr>
              <a:t>Foundation of the school year is 193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The building was located in Arkhangelsk Street. It was the first secondary educational institution of Oneg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692360" y="47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ool moved to a new five-story building in Gagarina Avenue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t  had been for 44 yea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979640" y="5013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62 zo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chule in neues fünfstöckiges Gebäude auf das Gagarina-Prospekt. Sie war dort 44 Jah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p5_shkola1"/>
          <p:cNvPicPr/>
          <p:nvPr/>
        </p:nvPicPr>
        <p:blipFill>
          <a:blip r:embed="rId1"/>
          <a:stretch/>
        </p:blipFill>
        <p:spPr>
          <a:xfrm>
            <a:off x="2340000" y="1341360"/>
            <a:ext cx="4330800" cy="32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 flipV="1" rot="10800000">
            <a:off x="1619280" y="188640"/>
            <a:ext cx="561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eptember 1, 2006 School № 1 has returned to its original location - in street in Arkhangelsk Street, in a new modern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908000" y="5445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 1(erste). September 2006 eröffnete ihre Türe die neue Schule an ihr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sprünglichen Standor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der Archangelskaj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aße, in einem neuen modernen Gebäu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7" descr="p20_glavnyiyvxod"/>
          <p:cNvPicPr/>
          <p:nvPr/>
        </p:nvPicPr>
        <p:blipFill>
          <a:blip r:embed="rId1"/>
          <a:stretch/>
        </p:blipFill>
        <p:spPr>
          <a:xfrm>
            <a:off x="1619280" y="1268280"/>
            <a:ext cx="5543640" cy="41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189000"/>
            <a:ext cx="47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saved the names of all the directors of the first scho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director was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.P. Komaro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68360" y="6093000"/>
            <a:ext cx="395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erste Direktor wa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N.P.Komarow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6" descr="P1020405"/>
          <p:cNvPicPr/>
          <p:nvPr/>
        </p:nvPicPr>
        <p:blipFill>
          <a:blip r:embed="rId1"/>
          <a:stretch/>
        </p:blipFill>
        <p:spPr>
          <a:xfrm>
            <a:off x="2771640" y="1125360"/>
            <a:ext cx="265932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258920" y="0"/>
            <a:ext cx="633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1942 to 1958 director w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.I. Funiko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s a Biology teacher, he and a team of students and other teachers cultivated a beautiful garden around the school. We are grateful him for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 flipV="1" rot="10800000">
            <a:off x="1618920" y="5444640"/>
            <a:ext cx="58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1942 bis 1958 war Direktor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W.I.Funiko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Er war Biologie - lehrer. Die Lehrer, die Studenten und die Schüler machten einen schönen Garten um die Schule her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P1020402"/>
          <p:cNvPicPr/>
          <p:nvPr/>
        </p:nvPicPr>
        <p:blipFill>
          <a:blip r:embed="rId1"/>
          <a:stretch/>
        </p:blipFill>
        <p:spPr>
          <a:xfrm>
            <a:off x="1547640" y="1700280"/>
            <a:ext cx="56898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2340000" y="47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1956 to1960 the school was headed b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lygina 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484360" y="5661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1956 bis 1960 wurde die Schule von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S.A.Malygin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leit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P1020409"/>
          <p:cNvPicPr/>
          <p:nvPr/>
        </p:nvPicPr>
        <p:blipFill>
          <a:blip r:embed="rId1"/>
          <a:stretch/>
        </p:blipFill>
        <p:spPr>
          <a:xfrm>
            <a:off x="2771640" y="1484280"/>
            <a:ext cx="30988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979640" y="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.F. Polyansk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k the reins of the school , who oversaw the building of a five-store school and moved  to this new schoo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000160" y="595008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W. F. Polanskij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leitete ,den Bau eines             fünfstöckigen Schu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1020420"/>
          <p:cNvPicPr/>
          <p:nvPr/>
        </p:nvPicPr>
        <p:blipFill>
          <a:blip r:embed="rId1"/>
          <a:stretch/>
        </p:blipFill>
        <p:spPr>
          <a:xfrm>
            <a:off x="2124000" y="1413000"/>
            <a:ext cx="4608720" cy="43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763640" y="620640"/>
            <a:ext cx="61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1964 to 1969 the school had three director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.S. Anisim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.F. Andron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.A. Maligi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79640" y="551664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1964 bis 1969, war es drei Direktor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N.S. Anisimow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L.F. Andronow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der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S.A.Malygin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P1020408"/>
          <p:cNvPicPr/>
          <p:nvPr/>
        </p:nvPicPr>
        <p:blipFill>
          <a:blip r:embed="rId1"/>
          <a:stretch/>
        </p:blipFill>
        <p:spPr>
          <a:xfrm>
            <a:off x="250920" y="1773360"/>
            <a:ext cx="2485800" cy="331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P1020409"/>
          <p:cNvPicPr/>
          <p:nvPr/>
        </p:nvPicPr>
        <p:blipFill>
          <a:blip r:embed="rId2"/>
          <a:stretch/>
        </p:blipFill>
        <p:spPr>
          <a:xfrm>
            <a:off x="5602320" y="1773360"/>
            <a:ext cx="284652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37:32Z</dcterms:created>
  <dc:creator>Customer</dc:creator>
  <dc:description/>
  <dc:language>en-US</dc:language>
  <cp:lastModifiedBy>шполтакова</cp:lastModifiedBy>
  <dcterms:modified xsi:type="dcterms:W3CDTF">2012-10-24T12:53:42Z</dcterms:modified>
  <cp:revision>21</cp:revision>
  <dc:subject/>
  <dc:title>Слайд 1</dc:title>
</cp:coreProperties>
</file>